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6F0-7E39-40A6-A21F-89A89A4D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88D-C346-41D3-B4CB-726B0C8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3A8-C0DA-482F-A167-2308C25E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076-8B87-4C83-8755-8EED8980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717-E17F-4298-8D85-3259C8D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C0E-AA9E-45D4-9DE7-024055A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BFB-836E-41D6-9F80-7A71032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274-A6B6-48DC-A70A-054DF034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A5F-F477-4C42-B2B1-45B9A81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C47-8868-4AC1-A325-A5A49ED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C23-41B7-4531-AA25-AFD50EC1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D76-B7D2-4FB9-9A7F-084F116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762-5B06-4736-B634-24931102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469280" cy="5602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56160" y="208080"/>
            <a:ext cx="65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each of these icons and what does it represent (show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9280" cy="587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160" y="65160"/>
            <a:ext cx="65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identify a directory and two types of files from the l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06000" cy="6303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7400" y="2924280"/>
            <a:ext cx="607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tell about the “student council” fold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this scre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need to create your own folders to help organ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chool work…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3:41:19Z</dcterms:created>
  <dc:creator>assistanthead-sec</dc:creator>
  <dc:description/>
  <dc:language>en-US</dc:language>
  <cp:lastModifiedBy>jmarshall</cp:lastModifiedBy>
  <dcterms:modified xsi:type="dcterms:W3CDTF">2008-02-18T05:24:43Z</dcterms:modified>
  <cp:revision>1</cp:revision>
  <dc:subject/>
  <dc:title>Slide 1</dc:title>
</cp:coreProperties>
</file>